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BAA-CECC-4DBB-8A5A-2544CC84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2A1-D2CC-4F85-B094-A081573A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581-14A4-42E5-864C-C5D84BDD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606-2F86-49AC-B2D9-AFB8851E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8058-E62C-477F-8303-45111D89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C3FA-8090-46BA-8177-332BB507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2D98-D359-475A-A7B0-B347384D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FF98-F0B6-4E1C-9B76-0DE2B95B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24BD-573D-4487-B226-D1149361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92D4-E95E-494A-AE71-6E4655EC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D647-7B9B-4246-AEC0-E3CC145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AC7-20B5-4207-9341-A9B22FE2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B77F-E60B-4F1B-98E9-5715A35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7DD2-AFFE-4AC4-9BDA-6E27F692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1DC5-8F88-454E-A0E2-A7817CC6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6519-20F0-4517-BE7B-B801EE1C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6966-55DA-47A0-9862-4990E786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9A5-CA56-4AFC-97BB-74A818BB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DA5-C6B1-44E1-80BD-10066F74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680-B8C3-4CAE-B422-5F089B1A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2B9-6F13-4220-9E97-CF4BA837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F2B-C3F3-42E1-8FB1-825B8964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5AD-5104-43AD-9399-24D32D79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ACA-4CC4-4361-993F-E59EB77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AF6-FB02-4907-BF64-4F00F76341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55B7-7CA2-49FB-80DC-26CCF6391B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bbd71"/>
                </a:solidFill>
                <a:latin typeface="Arial"/>
              </a:rPr>
              <a:t>Jill Luckey</a:t>
            </a:r>
            <a:br>
              <a:rPr sz="4800"/>
            </a:br>
            <a:r>
              <a:rPr b="1" i="1" lang="en-US" sz="4800" spc="-1" strike="noStrike">
                <a:solidFill>
                  <a:srgbClr val="dbbd71"/>
                </a:solidFill>
                <a:latin typeface="Arial"/>
              </a:rPr>
              <a:t>Beaufort Academ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28600"/>
            <a:ext cx="5562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avity, Explained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More Math Proof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Using a formula for b: (the question was: How long does it take the object to reach the top of its path?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you want the v</a:t>
            </a:r>
            <a:r>
              <a:rPr b="1" i="1" lang="en-US" sz="2800" spc="-1" strike="noStrike" baseline="-25000">
                <a:solidFill>
                  <a:srgbClr val="dbbd71"/>
                </a:solidFill>
                <a:latin typeface="Tahoma"/>
              </a:rPr>
              <a:t>f </a:t>
            </a: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 to be 0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so use v</a:t>
            </a:r>
            <a:r>
              <a:rPr b="1" i="1" lang="en-US" sz="2800" spc="-1" strike="noStrike" baseline="-25000">
                <a:solidFill>
                  <a:srgbClr val="dbbd71"/>
                </a:solidFill>
                <a:latin typeface="Tahoma"/>
              </a:rPr>
              <a:t>f</a:t>
            </a: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 = v</a:t>
            </a:r>
            <a:r>
              <a:rPr b="1" i="1" lang="en-US" sz="2800" spc="-1" strike="noStrike" baseline="-25000">
                <a:solidFill>
                  <a:srgbClr val="dbbd71"/>
                </a:solidFill>
                <a:latin typeface="Tahoma"/>
              </a:rPr>
              <a:t>o</a:t>
            </a: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 + at          (again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Therefore you ha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0 = 90 + (-10)(t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-90 = -10 t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t = 9s</a:t>
            </a:r>
            <a:br>
              <a:rPr sz="2800"/>
            </a:br>
            <a:r>
              <a:rPr b="1" i="1" lang="en-US" sz="1400" spc="-1" strike="noStrike">
                <a:solidFill>
                  <a:srgbClr val="dbbd71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dbbd71"/>
                </a:solidFill>
                <a:latin typeface="Tahoma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And mor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Using a formula for c:   (the question was: How fast is the object going after 12 s?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f 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= 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o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+ at;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f 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= 90 + (-10)(12)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f 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= 90 –120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f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= -30 m/s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	</a:t>
            </a:r>
            <a:br>
              <a:rPr sz="3200"/>
            </a:b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e:  a negative velocity indicates that the object is returning towards the earth, or fal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1131840"/>
            <a:ext cx="6477120" cy="5516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228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an object is thrown straight up at 70 m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m/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6765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fast is the object going after 1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676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6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2133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long does it take for the object to reach the top of it’s path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7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8195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what point along the path is the object experiencing ag of -9.8 m/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40384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At every point from being fired, going up, at the very top, and at every point on the way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8195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instantaneous velocity at the top of the path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44956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velocity at the moment the object returns to the “firing height”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7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CCELERATION &amp; VELOCITY ARE NOT ALWAYS IN THE SAME DIRECTION!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way UP the velocity vector is pointing up but the acceleration (gravity) is pointing d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way DOWN, they are in the same direc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velocity at point A is 45 m/s, what is the velocity at point C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3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about tim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ball is in the air for a total 8.2 secon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long does it take for the ball to get to point 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long to get from point B to C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657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Seems Like a Simple Concept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t it’s worth taking the time to really understand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rst, let’s eliminate friction (no air resistance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y doing so, our objects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ntinually accelerat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as long as they are falling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reality (with air resistance) there is such a thing as “terminal velocity”, which is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he fastest speed an object reaches as it’s falli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based on the object’s shape and size (ability to overcome the friction of air molecules).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An elephant has a greater terminal velocity than a spider, but the spider reaches terminal velocity sooner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37160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- are moving towards the earth</a:t>
            </a:r>
            <a:br>
              <a:rPr sz="3600"/>
            </a:b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- are subject to the acceleration of gravity, which is  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–9.81 m/s</a:t>
            </a:r>
            <a:r>
              <a:rPr b="1" i="1" lang="en-US" sz="3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-  formula:  </a:t>
            </a:r>
            <a:r>
              <a:rPr b="1" i="1" lang="en-US" sz="3600" spc="-1" strike="noStrike">
                <a:solidFill>
                  <a:srgbClr val="ffff00"/>
                </a:solidFill>
                <a:latin typeface="Albertus Extra Bold"/>
              </a:rPr>
              <a:t>s = ½ at</a:t>
            </a:r>
            <a:r>
              <a:rPr b="1" i="1" lang="en-US" sz="3600" spc="-1" strike="noStrike" baseline="30000">
                <a:solidFill>
                  <a:srgbClr val="ffff00"/>
                </a:solidFill>
                <a:latin typeface="Albertus Extra Bol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 where s = displacement, a = the acceleration of gravity, and t =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6000" y="533520"/>
            <a:ext cx="521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Tahoma"/>
              </a:rPr>
              <a:t>Objects In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dbbd71"/>
                </a:solidFill>
                <a:latin typeface="Tahoma"/>
              </a:rPr>
              <a:t>Freef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Objects Thrown Upward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523880"/>
            <a:ext cx="441936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bbd7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draw an inverted narrow V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- let’s agree to this “convention”:  we will mark the “firing velocity” on the bottom left;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- if the object returns to earth at the same height, then the “return velocity” is the same but with a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egative </a:t>
            </a: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value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- at all times during the object’s motion (all times!) the object’s a is –9.81 m/s</a:t>
            </a:r>
            <a:r>
              <a:rPr b="1" i="1" lang="en-US" sz="2400" spc="-1" strike="noStrike" baseline="30000">
                <a:solidFill>
                  <a:srgbClr val="dbbd71"/>
                </a:solidFill>
                <a:latin typeface="Arial"/>
              </a:rPr>
              <a:t>2</a:t>
            </a:r>
            <a:br>
              <a:rPr sz="4000"/>
            </a:b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41760" y="52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3200400"/>
            <a:ext cx="4190760" cy="2209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257800"/>
            <a:ext cx="1600200" cy="457200"/>
          </a:xfrm>
          <a:prstGeom prst="ellipse">
            <a:avLst/>
          </a:prstGeom>
          <a:gradFill rotWithShape="0">
            <a:gsLst>
              <a:gs pos="0">
                <a:srgbClr val="ffff00">
                  <a:alpha val="56078"/>
                </a:srgbClr>
              </a:gs>
              <a:gs pos="50000">
                <a:srgbClr val="996600">
                  <a:alpha val="56078"/>
                </a:srgbClr>
              </a:gs>
              <a:gs pos="100000">
                <a:srgbClr val="ffff00">
                  <a:alpha val="5607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181480"/>
            <a:ext cx="1600200" cy="457200"/>
          </a:xfrm>
          <a:prstGeom prst="ellipse">
            <a:avLst/>
          </a:prstGeom>
          <a:gradFill rotWithShape="0">
            <a:gsLst>
              <a:gs pos="0">
                <a:srgbClr val="ffff00">
                  <a:alpha val="56078"/>
                </a:srgbClr>
              </a:gs>
              <a:gs pos="50000">
                <a:srgbClr val="996600">
                  <a:alpha val="56078"/>
                </a:srgbClr>
              </a:gs>
              <a:gs pos="100000">
                <a:srgbClr val="ffff00">
                  <a:alpha val="5607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op of the Pat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410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- at the top of the path, the object’s “v” is instantaneously 0 m/s</a:t>
            </a:r>
            <a:br>
              <a:rPr sz="2800"/>
            </a:b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- the top of the path marks the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alf-way point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, time-wise</a:t>
            </a:r>
            <a:br>
              <a:rPr sz="2800"/>
            </a:b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e “a” of the object at the top of the path is still –9.81 m/s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19720" y="2133720"/>
            <a:ext cx="2209680" cy="152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066680"/>
            <a:ext cx="419112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For our purposes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let’s round a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to 10 m/s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Let’s say an object is fired straight up at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90 m/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a. In the first second, what is it’s “v”?  </a:t>
            </a:r>
            <a:br>
              <a:rPr sz="2800"/>
            </a:b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(Subtract 10 from 90 and after 1 s you would expect the object’s v to be 80 m/s) (Roughly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b. How much time does it take for the object to reach the top of its path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1523880"/>
            <a:ext cx="3276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it starts at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90 m/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then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1 s it’s going 80 m/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2s it’s going 7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3 s it’s going 6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4 s it’s going 5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5 s it’s going 4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6 s it’s going 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7 s it’s going 2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8 s it’s going 1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9 s it’s going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. What is the object’s v after 12 s?</a:t>
            </a:r>
            <a:br>
              <a:rPr sz="4000"/>
            </a:b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t 9s it was 0 m/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fter 3 more s you must subtra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3(-10 m/s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) which is –30 m/s.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Let’s Prove our Concepts with a Mathematical Formul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00200"/>
            <a:ext cx="85345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Using a formula for a:  (the question was…how fast is the object going after 1 s?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= 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Arial"/>
              </a:rPr>
              <a:t>o</a:t>
            </a: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+ at;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v = 90 + (-10)(1);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v = 90 –10;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 = 80 m/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6:07:00Z</dcterms:created>
  <dc:creator>andreskim</dc:creator>
  <dc:description/>
  <dc:language>en-US</dc:language>
  <cp:lastModifiedBy>jluckey</cp:lastModifiedBy>
  <dcterms:modified xsi:type="dcterms:W3CDTF">2009-10-01T16:38:50Z</dcterms:modified>
  <cp:revision>48</cp:revision>
  <dc:subject/>
  <dc:title>Gravity, Explained First, let’s eliminate friction (no air resistance).  By doing so, our objects continually accelerate as long as they are falling.  In reality (with air resistance) there is such a thing as “terminal velocity”, which is the fastest speed an object reaches as it’s falling, based on the object’s shape and size (ability to overcome the friction of air molecules).       </dc:title>
</cp:coreProperties>
</file>